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1A3-D8C6-4602-B7BC-F6F58380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F5A-BFEA-476A-8453-82E3B2D0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B5C-FA36-4280-BE93-CC7C106A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D40-BF31-4BBD-9060-CDD0976C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211-E10F-4199-A6AC-1ABEED6C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947-1F2A-4BE7-A846-FC776ED5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25F-3663-4EDC-BF53-132958EC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9B5-0462-4A84-814E-F5C87D66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29B-F6A5-46DA-B306-168F838A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D28-9E5F-4171-AB95-DCFF4F3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070-2EFF-46D4-982D-0F9B16B9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D4A-1870-4FAA-B37F-5801EC09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A5AB-4B56-4AD7-9F37-89CF9D22544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olo 1" descr=""/>
          <p:cNvPicPr/>
          <p:nvPr/>
        </p:nvPicPr>
        <p:blipFill>
          <a:blip r:embed="rId1"/>
          <a:stretch/>
        </p:blipFill>
        <p:spPr>
          <a:xfrm>
            <a:off x="401760" y="639720"/>
            <a:ext cx="8461080" cy="1596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t3.gstatic.com/images?q=tbn:PJPT8ZwHRIg27M:http://ecoskylab.com/blog/wp-content/terra-malata.jpg&amp;t=1"/>
          <p:cNvPicPr/>
          <p:nvPr/>
        </p:nvPicPr>
        <p:blipFill>
          <a:blip r:embed="rId2"/>
          <a:stretch/>
        </p:blipFill>
        <p:spPr>
          <a:xfrm>
            <a:off x="2556000" y="2127240"/>
            <a:ext cx="41464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'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effetto serr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 è un principio naturale che si riferisce alla capacità di un pianeta di trattenere nella propria atmosfera parte del calore proveniente dal S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://carolemico.myblog.it/media/00/01/145729233.jpg"/>
          <p:cNvPicPr/>
          <p:nvPr/>
        </p:nvPicPr>
        <p:blipFill>
          <a:blip r:embed="rId2"/>
          <a:stretch/>
        </p:blipFill>
        <p:spPr>
          <a:xfrm>
            <a:off x="3059280" y="3208320"/>
            <a:ext cx="3313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6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L'atmosfera che avvolge la Terra s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comporta come la vetrata di una gran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serra perchè alcuni gas  (</a:t>
            </a:r>
            <a:r>
              <a:rPr b="1" lang="it-IT" sz="2000" spc="-1" strike="noStrike">
                <a:solidFill>
                  <a:srgbClr val="000000"/>
                </a:solidFill>
                <a:latin typeface="Ravie"/>
              </a:rPr>
              <a:t>gas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Ravie"/>
              </a:rPr>
              <a:t>serra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)  presenti nell'atmosfera,  han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la capacità di intrappolare all'inter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dell'atmosfera le radiazioni infraros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che vengono riflesse dalla superfic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terrest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legambientearcipelagotoscano.it/globalmente/climapoverta/img/Effetto-serra.jpg"/>
          <p:cNvPicPr/>
          <p:nvPr/>
        </p:nvPicPr>
        <p:blipFill>
          <a:blip r:embed="rId2"/>
          <a:stretch/>
        </p:blipFill>
        <p:spPr>
          <a:xfrm>
            <a:off x="2340000" y="3500280"/>
            <a:ext cx="4700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icbernareggio.it/didattici/inquinamento/aria/effetto-serra.gif"/>
          <p:cNvPicPr/>
          <p:nvPr/>
        </p:nvPicPr>
        <p:blipFill>
          <a:blip r:embed="rId1"/>
          <a:stretch/>
        </p:blipFill>
        <p:spPr>
          <a:xfrm>
            <a:off x="1258920" y="333360"/>
            <a:ext cx="6337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effetto serra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" name="Rettangolo 3"/>
          <p:cNvSpPr/>
          <p:nvPr/>
        </p:nvSpPr>
        <p:spPr>
          <a:xfrm>
            <a:off x="1332000" y="1268280"/>
            <a:ext cx="69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Ravie"/>
              </a:rPr>
              <a:t>Alcuni gas si concentrano nell' atmosfera, impedendo al calore terres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Ravie"/>
              </a:rPr>
              <a:t>di disperdersi nello spaz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tangolo 3"/>
          <p:cNvSpPr/>
          <p:nvPr/>
        </p:nvSpPr>
        <p:spPr>
          <a:xfrm>
            <a:off x="900000" y="1628640"/>
            <a:ext cx="58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continuiamo a immettere questi gas nell'atmosfera la temperatura aumenterebbe nei prossimi 50/100 an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colpevole principale è l' anidride carbonica (CO2), oltre ad altri gas come il met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'anidride carbonica è formata da un atom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arbonio legato a due atomi di ossige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 piante consumano l'anidride carbonica attraverso la fotosintesi clorofilliana. Quindi, se queste diminuiscono, aumenta la concentrazione di anidride carbonica nell'atmosfera e di conseguenza aumenta l'effetto s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piccolastella.it/wp-content/uploads/2010/10/punto-interrogativo-2.jpg"/>
          <p:cNvPicPr/>
          <p:nvPr/>
        </p:nvPicPr>
        <p:blipFill>
          <a:blip r:embed="rId1"/>
          <a:stretch/>
        </p:blipFill>
        <p:spPr>
          <a:xfrm>
            <a:off x="6732720" y="0"/>
            <a:ext cx="2265120" cy="2852640"/>
          </a:xfrm>
          <a:prstGeom prst="rect">
            <a:avLst/>
          </a:prstGeom>
          <a:ln w="0">
            <a:noFill/>
          </a:ln>
        </p:spPr>
      </p:pic>
      <p:pic>
        <p:nvPicPr>
          <p:cNvPr id="52" name="Rettangolo 6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297400" cy="115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t3.gstatic.com/images?q=tbn:8V5b0xI7wXN4xM:http://digilander.libero.it/dama.760/060921-polar-bears_big.jpg&amp;t=1"/>
          <p:cNvPicPr/>
          <p:nvPr/>
        </p:nvPicPr>
        <p:blipFill>
          <a:blip r:embed="rId3"/>
          <a:stretch/>
        </p:blipFill>
        <p:spPr>
          <a:xfrm>
            <a:off x="3203640" y="5459400"/>
            <a:ext cx="2735280" cy="139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sdfew"/>
          <p:cNvPicPr/>
          <p:nvPr/>
        </p:nvPicPr>
        <p:blipFill>
          <a:blip r:embed="rId4"/>
          <a:stretch/>
        </p:blipFill>
        <p:spPr>
          <a:xfrm>
            <a:off x="6659640" y="3429000"/>
            <a:ext cx="2227320" cy="210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dsd"/>
          <p:cNvPicPr/>
          <p:nvPr/>
        </p:nvPicPr>
        <p:blipFill>
          <a:blip r:embed="rId5"/>
          <a:stretch/>
        </p:blipFill>
        <p:spPr>
          <a:xfrm>
            <a:off x="6659640" y="5516640"/>
            <a:ext cx="2268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lamiaaria.it/images/edu/edu_21.png"/>
          <p:cNvPicPr/>
          <p:nvPr/>
        </p:nvPicPr>
        <p:blipFill>
          <a:blip r:embed="rId1"/>
          <a:stretch/>
        </p:blipFill>
        <p:spPr>
          <a:xfrm>
            <a:off x="3851280" y="3789360"/>
            <a:ext cx="2217600" cy="194796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6"/>
          <p:cNvSpPr/>
          <p:nvPr/>
        </p:nvSpPr>
        <p:spPr>
          <a:xfrm>
            <a:off x="1258920" y="206064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ridurre questo problema, bisognereb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n distruggere le foreste esistenti e magari piantare altri albe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liminare o ridurre il consumo di combustibili fossili, sostituendoli con fonti energetiche rinnovabili (vento, sole, acqua, ecc.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ttangolo 7" descr=""/>
          <p:cNvPicPr/>
          <p:nvPr/>
        </p:nvPicPr>
        <p:blipFill>
          <a:blip r:embed="rId2"/>
          <a:stretch/>
        </p:blipFill>
        <p:spPr>
          <a:xfrm>
            <a:off x="-158760" y="304920"/>
            <a:ext cx="93456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ttangolo 3" descr=""/>
          <p:cNvPicPr/>
          <p:nvPr/>
        </p:nvPicPr>
        <p:blipFill>
          <a:blip r:embed="rId2"/>
          <a:stretch/>
        </p:blipFill>
        <p:spPr>
          <a:xfrm>
            <a:off x="1401840" y="-30240"/>
            <a:ext cx="5773680" cy="198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digilander.libero.it/gepponline/invenzioni/diablumo/portarullino.jpg"/>
          <p:cNvPicPr/>
          <p:nvPr/>
        </p:nvPicPr>
        <p:blipFill>
          <a:blip r:embed="rId3"/>
          <a:stretch/>
        </p:blipFill>
        <p:spPr>
          <a:xfrm>
            <a:off x="468360" y="2276640"/>
            <a:ext cx="1217520" cy="122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www.packagingonline.it/images/gastronomia/83400551b_vaschetta.jpg"/>
          <p:cNvPicPr/>
          <p:nvPr/>
        </p:nvPicPr>
        <p:blipFill>
          <a:blip r:embed="rId4"/>
          <a:stretch/>
        </p:blipFill>
        <p:spPr>
          <a:xfrm>
            <a:off x="2484360" y="2205000"/>
            <a:ext cx="1943280" cy="1457280"/>
          </a:xfrm>
          <a:prstGeom prst="rect">
            <a:avLst/>
          </a:prstGeom>
          <a:ln w="0">
            <a:noFill/>
          </a:ln>
        </p:spPr>
      </p:pic>
      <p:sp>
        <p:nvSpPr>
          <p:cNvPr id="62" name="Rettangolo 14"/>
          <p:cNvSpPr/>
          <p:nvPr/>
        </p:nvSpPr>
        <p:spPr>
          <a:xfrm rot="5400000">
            <a:off x="5004360" y="2493000"/>
            <a:ext cx="1368360" cy="79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www.ecosmartfire.com/accessory/country_115/1818732480plasma1.jpg"/>
          <p:cNvPicPr/>
          <p:nvPr/>
        </p:nvPicPr>
        <p:blipFill>
          <a:blip r:embed="rId5"/>
          <a:stretch/>
        </p:blipFill>
        <p:spPr>
          <a:xfrm>
            <a:off x="6875640" y="2349360"/>
            <a:ext cx="1441440" cy="135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://www.ilovesport.org/images/segno_piu.gif"/>
          <p:cNvPicPr/>
          <p:nvPr/>
        </p:nvPicPr>
        <p:blipFill>
          <a:blip r:embed="rId6"/>
          <a:stretch/>
        </p:blipFill>
        <p:spPr>
          <a:xfrm>
            <a:off x="1835280" y="2492280"/>
            <a:ext cx="615960" cy="635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www.ilovesport.org/images/segno_piu.gif"/>
          <p:cNvPicPr/>
          <p:nvPr/>
        </p:nvPicPr>
        <p:blipFill>
          <a:blip r:embed="rId7"/>
          <a:stretch/>
        </p:blipFill>
        <p:spPr>
          <a:xfrm>
            <a:off x="4500720" y="2637000"/>
            <a:ext cx="615960" cy="63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www.ilovesport.org/images/segno_piu.gif"/>
          <p:cNvPicPr/>
          <p:nvPr/>
        </p:nvPicPr>
        <p:blipFill>
          <a:blip r:embed="rId8"/>
          <a:stretch/>
        </p:blipFill>
        <p:spPr>
          <a:xfrm>
            <a:off x="6227640" y="2708280"/>
            <a:ext cx="615960" cy="63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upload.wikimedia.org/wikipedia/commons/thumb/4/4d/Equal_symbol.svg/158px-Equal_symbol.svg.png"/>
          <p:cNvPicPr/>
          <p:nvPr/>
        </p:nvPicPr>
        <p:blipFill>
          <a:blip r:embed="rId9"/>
          <a:stretch/>
        </p:blipFill>
        <p:spPr>
          <a:xfrm>
            <a:off x="3708360" y="3429000"/>
            <a:ext cx="1505160" cy="180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http://www.claudiobaglioni.net/blog/wp-content/uploads/2010/11/punto_interrogativo.jpg"/>
          <p:cNvPicPr/>
          <p:nvPr/>
        </p:nvPicPr>
        <p:blipFill>
          <a:blip r:embed="rId10"/>
          <a:stretch/>
        </p:blipFill>
        <p:spPr>
          <a:xfrm>
            <a:off x="3708360" y="4724280"/>
            <a:ext cx="1655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ttangolo 1"/>
          <p:cNvSpPr/>
          <p:nvPr/>
        </p:nvSpPr>
        <p:spPr>
          <a:xfrm rot="20952600">
            <a:off x="595440" y="2565360"/>
            <a:ext cx="402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temperatura dell’acqua del conteni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e stava dentro alla scatola di polisti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maggiore di quell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tenitore che stava fu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2"/>
          <p:cNvSpPr/>
          <p:nvPr/>
        </p:nvSpPr>
        <p:spPr>
          <a:xfrm rot="944400">
            <a:off x="4819320" y="3426120"/>
            <a:ext cx="40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catola di polistirolo ha funzi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e una piccola serra. Un met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ottenere acqua cal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le abitazioni consiste proprio nel po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 contenitore dell’acqua con le par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terne nere al s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sellaDiTesto 3"/>
          <p:cNvSpPr/>
          <p:nvPr/>
        </p:nvSpPr>
        <p:spPr>
          <a:xfrm>
            <a:off x="1332000" y="69228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 CARTER"/>
              </a:rPr>
              <a:t>Dunque cosa osserviamo? E che cosa abbiamo capito con questo esperimen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7:59:31Z</dcterms:created>
  <dc:creator>Sara</dc:creator>
  <dc:description/>
  <dc:language>en-US</dc:language>
  <cp:lastModifiedBy>Laura Polenta</cp:lastModifiedBy>
  <dcterms:modified xsi:type="dcterms:W3CDTF">2011-05-29T16:52:32Z</dcterms:modified>
  <cp:revision>23</cp:revision>
  <dc:subject/>
  <dc:title>Divertiamoci con l’effetto serra!</dc:title>
</cp:coreProperties>
</file>